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137-8548-4CF1-937E-B7F411E4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3C5-2996-4CBE-AB96-14A35BC0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EB7-AD80-41F8-94C1-C0F5F11E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F27-1E7D-4D75-8DAD-72237426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F32-394C-482A-B154-D06ABE1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FDF-8DA3-46ED-94C9-96606C5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75B-C7D7-4B68-87DC-65CF7E6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ED-B4A3-47EF-9E51-A4C211AA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7C6-A18E-421E-B75F-EE85112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7D6-3F63-4F10-A0A2-A85D56F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BCE-48FA-42C1-9E87-9D432FC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21F-376B-470E-A2D5-C9458E5C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F8A-1AB8-4F6A-AE93-04C253BE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600200"/>
            <a:ext cx="85345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Fr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When he starts off the beginning of the speech with a story of a young boy and in the end of the speech he finishes with claiming that the young boy was him, and that they walk together side by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Ellie uses many question and answer type responses in his speech. For example “What is indifference?” “..the word means </a:t>
            </a:r>
            <a:r>
              <a:rPr b="0" lang="en-US" sz="2000" spc="-1" strike="noStrike">
                <a:solidFill>
                  <a:srgbClr val="ff0000"/>
                </a:solidFill>
                <a:latin typeface="Tekton Pro"/>
              </a:rPr>
              <a:t>“no difference”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228600"/>
            <a:ext cx="2666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ll Paul"/>
              </a:rPr>
              <a:t>Trope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ll Paul"/>
              <a:ea typeface="Tall Pa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23:38Z</dcterms:created>
  <dc:creator>Southeast Local Schools</dc:creator>
  <dc:description/>
  <dc:language>en-US</dc:language>
  <cp:lastModifiedBy>HP Authorized Customer</cp:lastModifiedBy>
  <dcterms:modified xsi:type="dcterms:W3CDTF">2011-03-31T01:34:36Z</dcterms:modified>
  <cp:revision>4</cp:revision>
  <dc:subject/>
  <dc:title>PowerPoint Presentation</dc:title>
</cp:coreProperties>
</file>